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E63-6F51-48EB-A2D1-E23F9F09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BC3-8AB7-494F-8D98-BE7CC86B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9E5-1447-45AE-A63C-F2000268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230-12F2-4D14-A0D3-CA78BEA9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058-F71E-425D-914A-E4FCC096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5B9-1B19-447E-BFE8-5021133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D4F-5BD8-4C48-B599-EA4BF48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329-F871-46D5-8A7F-40A3B01A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ADC-52C2-4641-A81F-C5C192F1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DB3-7D69-4CCC-B80B-7BD94FCA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06B-D028-4CA3-AFA7-204A82A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199-B017-40A8-B58F-4F62A6B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6D58-6AEF-4D91-965D-5AE78E267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405360"/>
            <a:ext cx="1752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1920" y="99036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7760" y="533160"/>
            <a:ext cx="2971800" cy="6095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0440" y="380520"/>
            <a:ext cx="25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405360"/>
            <a:ext cx="1752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1920" y="99036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7760" y="533160"/>
            <a:ext cx="2971800" cy="609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0440" y="380520"/>
            <a:ext cx="25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3:05:01Z</dcterms:created>
  <dc:creator>Sharon Shelhamer</dc:creator>
  <dc:description/>
  <dc:language>en-US</dc:language>
  <cp:lastModifiedBy>Sharon Shelhamer</cp:lastModifiedBy>
  <dcterms:modified xsi:type="dcterms:W3CDTF">2011-09-25T13:16:36Z</dcterms:modified>
  <cp:revision>2</cp:revision>
  <dc:subject/>
  <dc:title>Slide 1</dc:title>
</cp:coreProperties>
</file>